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C4E-9B0B-4D2A-8E7D-A8F6086C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F43-FA05-46A0-883E-76D85299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237-250C-418B-AF9A-BA5B8AFC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66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68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66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68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32D-13A0-478D-B210-2F127158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9907-77DE-44A4-83A0-04A08048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6595-1803-45B8-BBA0-7038413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D51-B33E-4951-86B9-300E369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3E3B-45AD-419A-A020-56AED57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B125-B448-4FB7-B870-B66B5EAF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FB5A-CC8C-472D-B517-1D263DB8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A1D-AF38-4780-932F-B1A1127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406-AB21-4907-AB0A-AA67893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C779-8EB1-4404-BD88-9C41DB6C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10B0-804C-4D65-9913-53C0A32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38E8-C030-42DA-8F66-510B9B78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13BD-CB43-43AF-8852-4B7F04E7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66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68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66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68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B276-50AE-4461-B70D-787E39D7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8B8-C37C-41EE-82E7-57050B0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8DB-3589-4B01-B3DA-0B8465B2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CF3-2A75-465B-977B-55437B42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73C-89EC-4E84-87CF-3700939D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199-4043-42E3-8809-B4A9BB4E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C9A-841E-4620-A1C2-BB67617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7B7-3941-4F94-B067-BB47FEDA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02384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35000" y="124308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2318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50328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7732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104472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1316160" y="118440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15858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18572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212868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2398680" y="118440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2671920" y="118440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AutoShape 14"/>
          <p:cNvSpPr/>
          <p:nvPr/>
        </p:nvSpPr>
        <p:spPr>
          <a:xfrm>
            <a:off x="294156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AutoShape 15"/>
          <p:cNvSpPr/>
          <p:nvPr/>
        </p:nvSpPr>
        <p:spPr>
          <a:xfrm>
            <a:off x="32130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AutoShape 16"/>
          <p:cNvSpPr/>
          <p:nvPr/>
        </p:nvSpPr>
        <p:spPr>
          <a:xfrm>
            <a:off x="348444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37544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spcBef>
                <a:spcPts val="850"/>
              </a:spcBef>
              <a:buClr>
                <a:srgbClr val="8381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D432-D34A-4B6E-8F29-F2AF95949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0" y="153504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AutoShape 25"/>
          <p:cNvSpPr/>
          <p:nvPr/>
        </p:nvSpPr>
        <p:spPr>
          <a:xfrm>
            <a:off x="4027320" y="118440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AutoShape 26"/>
          <p:cNvSpPr/>
          <p:nvPr/>
        </p:nvSpPr>
        <p:spPr>
          <a:xfrm>
            <a:off x="4299120" y="118440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AutoShape 27"/>
          <p:cNvSpPr/>
          <p:nvPr/>
        </p:nvSpPr>
        <p:spPr>
          <a:xfrm>
            <a:off x="456876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AutoShape 28"/>
          <p:cNvSpPr/>
          <p:nvPr/>
        </p:nvSpPr>
        <p:spPr>
          <a:xfrm>
            <a:off x="48402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AutoShape 29"/>
          <p:cNvSpPr/>
          <p:nvPr/>
        </p:nvSpPr>
        <p:spPr>
          <a:xfrm>
            <a:off x="511164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AutoShape 30"/>
          <p:cNvSpPr/>
          <p:nvPr/>
        </p:nvSpPr>
        <p:spPr>
          <a:xfrm>
            <a:off x="53816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AutoShape 31"/>
          <p:cNvSpPr/>
          <p:nvPr/>
        </p:nvSpPr>
        <p:spPr>
          <a:xfrm>
            <a:off x="56530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AutoShape 32"/>
          <p:cNvSpPr/>
          <p:nvPr/>
        </p:nvSpPr>
        <p:spPr>
          <a:xfrm>
            <a:off x="592452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AutoShape 33"/>
          <p:cNvSpPr/>
          <p:nvPr/>
        </p:nvSpPr>
        <p:spPr>
          <a:xfrm>
            <a:off x="6194520" y="118440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AutoShape 34"/>
          <p:cNvSpPr/>
          <p:nvPr/>
        </p:nvSpPr>
        <p:spPr>
          <a:xfrm>
            <a:off x="646740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AutoShape 35"/>
          <p:cNvSpPr/>
          <p:nvPr/>
        </p:nvSpPr>
        <p:spPr>
          <a:xfrm>
            <a:off x="67374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AutoShape 36"/>
          <p:cNvSpPr/>
          <p:nvPr/>
        </p:nvSpPr>
        <p:spPr>
          <a:xfrm>
            <a:off x="70088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AutoShape 37"/>
          <p:cNvSpPr/>
          <p:nvPr/>
        </p:nvSpPr>
        <p:spPr>
          <a:xfrm>
            <a:off x="728028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AutoShape 38"/>
          <p:cNvSpPr/>
          <p:nvPr/>
        </p:nvSpPr>
        <p:spPr>
          <a:xfrm>
            <a:off x="75502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AutoShape 39"/>
          <p:cNvSpPr/>
          <p:nvPr/>
        </p:nvSpPr>
        <p:spPr>
          <a:xfrm>
            <a:off x="78184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AutoShape 40"/>
          <p:cNvSpPr/>
          <p:nvPr/>
        </p:nvSpPr>
        <p:spPr>
          <a:xfrm>
            <a:off x="808992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41"/>
          <p:cNvSpPr/>
          <p:nvPr/>
        </p:nvSpPr>
        <p:spPr>
          <a:xfrm>
            <a:off x="836136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42"/>
          <p:cNvSpPr/>
          <p:nvPr/>
        </p:nvSpPr>
        <p:spPr>
          <a:xfrm>
            <a:off x="863136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8" name="Rectangle 3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6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7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8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10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11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13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14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15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16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17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18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19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Rectangle 20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spcBef>
                <a:spcPts val="850"/>
              </a:spcBef>
              <a:buClr>
                <a:srgbClr val="8381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28FA-B46B-4688-A38B-7174E09AE0C6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71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. Gases in the Atmospher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p. 248 - 271)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599760"/>
            <a:ext cx="9144000" cy="1152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Unit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j0297707"/>
          <p:cNvPicPr/>
          <p:nvPr/>
        </p:nvPicPr>
        <p:blipFill>
          <a:blip r:embed="rId1"/>
          <a:stretch/>
        </p:blipFill>
        <p:spPr>
          <a:xfrm>
            <a:off x="6858000" y="434340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ich shoes create the most pressur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276720" y="2590920"/>
            <a:ext cx="1618920" cy="1345680"/>
            <a:chOff x="3276720" y="2590920"/>
            <a:chExt cx="1618920" cy="1345680"/>
          </a:xfrm>
        </p:grpSpPr>
        <p:graphicFrame>
          <p:nvGraphicFramePr>
            <p:cNvPr id="161" name="Object 5"/>
            <p:cNvGraphicFramePr/>
            <p:nvPr/>
          </p:nvGraphicFramePr>
          <p:xfrm>
            <a:off x="3410280" y="2590920"/>
            <a:ext cx="1485360" cy="110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0280" y="2590920"/>
                      <a:ext cx="1485360" cy="110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6"/>
            <p:cNvGraphicFramePr/>
            <p:nvPr/>
          </p:nvGraphicFramePr>
          <p:xfrm>
            <a:off x="3276720" y="2829240"/>
            <a:ext cx="1485360" cy="110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2829240"/>
                      <a:ext cx="1485360" cy="110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5" name="Object 7"/>
          <p:cNvGraphicFramePr/>
          <p:nvPr/>
        </p:nvGraphicFramePr>
        <p:xfrm>
          <a:off x="5562720" y="2743200"/>
          <a:ext cx="2887560" cy="15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2743200"/>
                    <a:ext cx="288756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9"/>
          <p:cNvGraphicFramePr/>
          <p:nvPr/>
        </p:nvGraphicFramePr>
        <p:xfrm>
          <a:off x="1143000" y="2590920"/>
          <a:ext cx="145080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2590920"/>
                    <a:ext cx="1450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10"/>
          <p:cNvGrpSpPr/>
          <p:nvPr/>
        </p:nvGrpSpPr>
        <p:grpSpPr>
          <a:xfrm>
            <a:off x="1600200" y="4343400"/>
            <a:ext cx="5653080" cy="1978200"/>
            <a:chOff x="1600200" y="4343400"/>
            <a:chExt cx="5653080" cy="1978200"/>
          </a:xfrm>
        </p:grpSpPr>
        <p:sp>
          <p:nvSpPr>
            <p:cNvPr id="170" name="AutoShape 11"/>
            <p:cNvSpPr/>
            <p:nvPr/>
          </p:nvSpPr>
          <p:spPr>
            <a:xfrm>
              <a:off x="1600200" y="4343400"/>
              <a:ext cx="5653080" cy="1978200"/>
            </a:xfrm>
            <a:prstGeom prst="roundRect">
              <a:avLst>
                <a:gd name="adj" fmla="val 16667"/>
              </a:avLst>
            </a:prstGeom>
            <a:solidFill>
              <a:srgbClr val="8381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Object 12"/>
                <p:cNvSpPr txBox="1"/>
                <p:nvPr/>
              </p:nvSpPr>
              <p:spPr>
                <a:xfrm>
                  <a:off x="1717920" y="4375440"/>
                  <a:ext cx="5344920" cy="18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essur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forc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its of Pressur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Pa (kP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mm H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tor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ps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at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nce there are so many different units for pressure and other measurements, scientists have agreed to use certain units when communicating results with each other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ystem is called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International System of Uni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SI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se unit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Fundamental physical quantit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66cc"/>
                </a:solidFill>
                <a:uFillTx/>
                <a:latin typeface="Arial"/>
              </a:rPr>
              <a:t>Ex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. Mass, length, ti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rived units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Found by mathematically combining two or more base un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ffff"/>
                </a:solidFill>
                <a:uFillTx/>
                <a:latin typeface="Arial"/>
              </a:rPr>
              <a:t>Ex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. Density, pressure, volu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rometer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: device to measure atmospheric pressu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At sea level: colum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is 760 mm H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P of mercury equ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P of atmosphe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5482800" y="2306520"/>
            <a:ext cx="2990880" cy="4553280"/>
            <a:chOff x="5482800" y="2306520"/>
            <a:chExt cx="2990880" cy="4553280"/>
          </a:xfrm>
        </p:grpSpPr>
        <p:graphicFrame>
          <p:nvGraphicFramePr>
            <p:cNvPr id="181" name="Object 5"/>
            <p:cNvGraphicFramePr/>
            <p:nvPr/>
          </p:nvGraphicFramePr>
          <p:xfrm>
            <a:off x="5614200" y="2306520"/>
            <a:ext cx="2859480" cy="417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14200" y="2306520"/>
                      <a:ext cx="2859480" cy="417024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3" name="Text Box 6"/>
            <p:cNvSpPr/>
            <p:nvPr/>
          </p:nvSpPr>
          <p:spPr>
            <a:xfrm>
              <a:off x="5482800" y="6460920"/>
              <a:ext cx="23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1b3"/>
                  </a:solidFill>
                  <a:latin typeface="Arial"/>
                </a:rPr>
                <a:t>Mercury Baromet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nergy possessed by any moving object, sometimes called the “energy of motion”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kinetic ener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energy depends on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Mass of moving ob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Velocity of moving ob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Molecular Theory (KMT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ses consist of tiny particles whose size is insignificant compared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to the great distances between th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Molecular Theory (KMT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ses are in constant, random motion.  They often collide with each other and the walls of their container and surrounding objects.  Gas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pressur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s the result of molecular collisions with container walls and other objec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Molecular Theory (KMT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ecular collisions are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elasti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  The amount of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energ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s consta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mperature by definition is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he amount of K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  At any T, molecules in a sample have a range of kinetic energies.  However, th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average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 of the molecules is consta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5 Boyle’s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rawings of syringe filled with ai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ubling the volume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halv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the pressur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creasing </a:t>
            </a:r>
            <a:r>
              <a:rPr b="0" i="1" lang="en-US" sz="3400" spc="-1" strike="noStrike">
                <a:solidFill>
                  <a:srgbClr val="ccecff"/>
                </a:solidFill>
                <a:latin typeface="Arial"/>
              </a:rPr>
              <a:t>volum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n half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doubl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the pressur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1 Properties of Gas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mospheric gases are generally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colorless, odorl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asteles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have mas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take up spac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j0216588"/>
          <p:cNvPicPr/>
          <p:nvPr/>
        </p:nvPicPr>
        <p:blipFill>
          <a:blip r:embed="rId1"/>
          <a:stretch/>
        </p:blipFill>
        <p:spPr>
          <a:xfrm>
            <a:off x="6553080" y="3505320"/>
            <a:ext cx="16099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5 Boyle’s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yle’s law saying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Boyle is a VI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yle’s law equation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P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= P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775400" cy="40384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555840" y="3049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.7 Charles’s La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650160" y="1752480"/>
            <a:ext cx="84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ll the lines are extended to the x-ax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lin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et 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273°C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7 Charles’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rd Kelvin used this information to derive a new temperature scale: the Kelvin scale.  Unlike other temperature scales, the Kelvin temperature scale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has no negative valu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7 Charles’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799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’ law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’ Law tells us that there is a direct relationship between T and V so if the Kelvin temperature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dou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the volume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dou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99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’ law say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Charles watches Direct T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8 Temperature-Pressure Relationshi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yle’s law states that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inverse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relat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rles’s law states that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direct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relat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issing combination of the variable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8 Temperature-Pressure Relationshi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mperature-Pressure relation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f T increases, what happens to the gas molecu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  <a:ea typeface="Arial"/>
              </a:rPr>
              <a:t>Move faster, more collisions, more 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  <a:ea typeface="Arial"/>
              </a:rPr>
              <a:t>Direct relation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ch formula should this relationship resembl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Charles’ Law – (both direc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8 Temperature-Pressure Relationshi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mperature-Pressure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y-Lussac’s La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P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 = T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P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or      </a:t>
            </a:r>
            <a:r>
              <a:rPr b="0" lang="en-US" sz="3400" spc="-1" strike="noStrike" u="sng">
                <a:solidFill>
                  <a:srgbClr val="ff66cc"/>
                </a:solidFill>
                <a:uFillTx/>
                <a:latin typeface="Arial"/>
              </a:rPr>
              <a:t>P</a:t>
            </a:r>
            <a:r>
              <a:rPr b="0" lang="en-US" sz="3400" spc="-1" strike="noStrike" u="sng" baseline="-25000">
                <a:solidFill>
                  <a:srgbClr val="ff66cc"/>
                </a:solidFill>
                <a:uFillTx/>
                <a:latin typeface="Arial"/>
              </a:rPr>
              <a:t>1 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= </a:t>
            </a:r>
            <a:r>
              <a:rPr b="0" lang="en-US" sz="3400" spc="-1" strike="noStrike" u="sng">
                <a:solidFill>
                  <a:srgbClr val="ff66cc"/>
                </a:solidFill>
                <a:uFillTx/>
                <a:latin typeface="Arial"/>
              </a:rPr>
              <a:t>P</a:t>
            </a:r>
            <a:r>
              <a:rPr b="0" lang="en-US" sz="3400" spc="-1" strike="noStrike" u="sng" baseline="-25000">
                <a:solidFill>
                  <a:srgbClr val="ff66cc"/>
                </a:solidFill>
                <a:uFillTx/>
                <a:latin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     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     T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   T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deal ga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gas that behaves exactly according to KM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Re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gases behave like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ide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gases under conditions of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high 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low 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Avogadro’s law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Equal volumes of gases at the same T and P contain equal #’s of gas molecu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STP: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ndard T and 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  <a:ea typeface="Arial"/>
              </a:rPr>
              <a:t>°C (273 K) and 1 at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olar volume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volume of 1 mol of a g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ar volume at STP: At STP conditions,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1 mol of a gas is 22.4 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1 Properties of Gas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exert pressur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have volum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ement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Constant, random, straight-lin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s and coeffici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Coefficients in a balanced chemical reaction tell us how many mol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2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+ O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ff66cc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2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2 mol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: 1 mol O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: 2 mol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What is the volume of 2 mo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What is the volume of 25 mo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moles are in 28 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moles are in 45 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2H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+ O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2H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mols of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 are needed to react with 4.5 mol O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L of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 are ther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 Put it all toget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Cl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+ 2Na </a:t>
            </a:r>
            <a:r>
              <a:rPr b="0" lang="en-US" sz="3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2NaC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L of NaCl are produced from the reaction of 8.5 mol Cl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st of the atmosphere’s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ma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all of its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weathe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within 10 to 15 km of Earth’s surface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region is called th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ropospher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ses continually mix in the troposphere, leading to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fairly uniform composition of air around the worl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ir is a mixtu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f gases!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j0335112"/>
          <p:cNvPicPr/>
          <p:nvPr/>
        </p:nvPicPr>
        <p:blipFill>
          <a:blip r:embed="rId1"/>
          <a:stretch/>
        </p:blipFill>
        <p:spPr>
          <a:xfrm>
            <a:off x="1752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opospheric Ai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ajor componen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Nitrogen (78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Oxygen (21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inor componen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Argon (0.93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Carbon dioxide (0.033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Human activ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natural phenome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such as volcanic eruptions can alter the concentrations of some trace gases and add other substances to the air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leads to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decrease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ir qualit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science, pressure refers to the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force applied to one unit surface of area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formula is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Pressure = </a:t>
            </a:r>
            <a:r>
              <a:rPr b="0" lang="en-US" sz="3400" spc="-1" strike="noStrike" u="sng">
                <a:solidFill>
                  <a:srgbClr val="66ffff"/>
                </a:solidFill>
                <a:uFillTx/>
                <a:latin typeface="Arial"/>
              </a:rPr>
              <a:t>For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ff"/>
                </a:solidFill>
                <a:latin typeface="Arial"/>
              </a:rPr>
              <a:t>         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Ar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rom the formula above, see that pressure is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direct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roportional to force and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inverse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roportional to are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9:18:05Z</dcterms:created>
  <dc:creator>Great Valley High School</dc:creator>
  <dc:description/>
  <dc:language>en-US</dc:language>
  <cp:lastModifiedBy>Great Valley High School</cp:lastModifiedBy>
  <dcterms:modified xsi:type="dcterms:W3CDTF">2008-05-16T12:43:06Z</dcterms:modified>
  <cp:revision>34</cp:revision>
  <dc:subject/>
  <dc:title>Slide 1</dc:title>
</cp:coreProperties>
</file>